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A9D-F96F-4E60-B753-7C226128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5C26-D2E1-4B3E-86F0-D338020E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5B1-79F0-4909-84C2-B1050674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347-2FF8-4FD7-9720-1B7F80AE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FF73-862B-491A-A8A6-AFE5E9FC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6192-3AAC-4F92-AEA4-2D280858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92F6-7F54-4891-883A-CF910E65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586E-1506-47EA-883B-E827A121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0013-6F72-417D-B8E1-28678400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B02D-3D10-418D-A29F-61D40BA1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36AD-973B-43FD-9D8C-89CD88E7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DEA-C067-484D-9E1A-95EF7048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389C-93CC-4BD2-9EB0-0DB012A2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FF28-0B20-4A89-8B78-9B9545DD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E468-D102-48B1-8857-2CD0DD49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1F18-F581-42CE-B925-3F67AC8B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556F-B257-45A8-865D-2D78B5E8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E39-4E18-4976-8295-084AC43F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333-6B3F-45F4-B29E-1C529E93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915-3576-4D72-83A5-8606D67F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3A7-C464-419A-AB10-37ACB0B2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E07-4056-4FC2-8E07-C5A8A32B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BFE-FD33-4A9A-A3B3-9C3C513F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792-56FD-4E3A-A9A9-A9186AD0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AA58-922E-4757-922E-952252797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DE1E-FA9D-482C-AE20-64595B7E3D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461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A NEED TO RECYCLE, REDUSE , AND 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5" descr="reduce%20reuse%20recycle"/>
          <p:cNvPicPr/>
          <p:nvPr/>
        </p:nvPicPr>
        <p:blipFill>
          <a:blip r:embed="rId1"/>
          <a:stretch/>
        </p:blipFill>
        <p:spPr>
          <a:xfrm>
            <a:off x="1600200" y="2057400"/>
            <a:ext cx="57006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e7ff"/>
                </a:solidFill>
                <a:latin typeface="Andy"/>
              </a:rPr>
              <a:t>A NEED TO RECYCLE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WHAT DOES IT MEAN TO RECYC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WHY SHOULD WE REUSE ITE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WHAT DOES IT MEAN TO REDU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WHY SHOULD WE RECYC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HOW CAN WE HEL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recycle"/>
          <p:cNvPicPr/>
          <p:nvPr/>
        </p:nvPicPr>
        <p:blipFill>
          <a:blip r:embed="rId1"/>
          <a:stretch/>
        </p:blipFill>
        <p:spPr>
          <a:xfrm>
            <a:off x="7010280" y="4343400"/>
            <a:ext cx="1476360" cy="21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ndy"/>
              </a:rPr>
              <a:t>WHAT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ndy"/>
              </a:rPr>
              <a:t>DOES IT MEAN TO RECYCLE?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304776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RECYCLING MEANS TO USE MATERIALS AGAIN TO MAKE SOMETHING NE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7" descr="earth_walking_lg_nwm"/>
          <p:cNvPicPr/>
          <p:nvPr/>
        </p:nvPicPr>
        <p:blipFill>
          <a:blip r:embed="rId1"/>
          <a:stretch/>
        </p:blipFill>
        <p:spPr>
          <a:xfrm>
            <a:off x="3657600" y="45720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ndy"/>
              </a:rPr>
              <a:t>WHY SHOULD WE REUSE ITEMS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PRODUCTS THAT STAY USEFUL REDUCE THE DEMAND FOR NEW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REUSING ITEMS ALSO EXTEND THE PRODUCTS NEED TO BE RECYCLED OR THROWED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tr_reduce"/>
          <p:cNvPicPr/>
          <p:nvPr/>
        </p:nvPicPr>
        <p:blipFill>
          <a:blip r:embed="rId1"/>
          <a:stretch/>
        </p:blipFill>
        <p:spPr>
          <a:xfrm>
            <a:off x="4191120" y="4343400"/>
            <a:ext cx="1933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ndy"/>
              </a:rPr>
              <a:t>WHAT DOES IT MEAN TO REDUC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406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REDUCTION MEANS TO MAKE SOMETHING SMA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USE SOMETHING LESS OF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cans"/>
          <p:cNvPicPr/>
          <p:nvPr/>
        </p:nvPicPr>
        <p:blipFill>
          <a:blip r:embed="rId1"/>
          <a:stretch/>
        </p:blipFill>
        <p:spPr>
          <a:xfrm>
            <a:off x="2971800" y="4419720"/>
            <a:ext cx="27432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ndy"/>
              </a:rPr>
              <a:t>Where does it go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of our garbage ends up in landf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the garbage is taken to 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inerator where it is bur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recycle3"/>
          <p:cNvPicPr/>
          <p:nvPr/>
        </p:nvPicPr>
        <p:blipFill>
          <a:blip r:embed="rId1"/>
          <a:stretch/>
        </p:blipFill>
        <p:spPr>
          <a:xfrm>
            <a:off x="762120" y="4191120"/>
            <a:ext cx="3657600" cy="2133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burning"/>
          <p:cNvPicPr/>
          <p:nvPr/>
        </p:nvPicPr>
        <p:blipFill>
          <a:blip r:embed="rId2"/>
          <a:stretch/>
        </p:blipFill>
        <p:spPr>
          <a:xfrm>
            <a:off x="5257800" y="4191120"/>
            <a:ext cx="32004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ndy"/>
              </a:rPr>
              <a:t>HOW CAN WE HELP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854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help by learning more about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ing the three “R”s of manag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, reuse, and re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1310277512"/>
          <p:cNvPicPr/>
          <p:nvPr/>
        </p:nvPicPr>
        <p:blipFill>
          <a:blip r:embed="rId1"/>
          <a:stretch/>
        </p:blipFill>
        <p:spPr>
          <a:xfrm>
            <a:off x="3352680" y="4343400"/>
            <a:ext cx="2819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02:07:25Z</dcterms:created>
  <dc:creator>Robin Yvonne Anderson</dc:creator>
  <dc:description/>
  <dc:language>en-US</dc:language>
  <cp:lastModifiedBy>MEB</cp:lastModifiedBy>
  <dcterms:modified xsi:type="dcterms:W3CDTF">2011-05-02T12:08:18Z</dcterms:modified>
  <cp:revision>9</cp:revision>
  <dc:subject/>
  <dc:title>A NEED TO RECYCLE</dc:title>
</cp:coreProperties>
</file>